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2C4-65FC-4F96-8373-8D2D7759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626-78AB-4DAB-AEA5-95991FA0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7BF-EACC-4BBB-83D1-E1A33F8B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FE7-0536-423E-AD76-298F0C8A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830-01D9-47F9-A1CC-981E0D6C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F66-6E6F-4DD5-AF6E-A73AC523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476-F4DB-4ACF-A0FD-2B43A222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D9F-6D44-48D1-802E-D9AF685E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8DE-13D8-467B-8886-757F4FE8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7CE-3DCE-4DC4-983F-8806C59F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E4B-CBF4-45D6-BF71-86AF1C33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80D-C2C2-4E01-A63E-C3E0F451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F9E3-78FC-4919-9D93-0F451643D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5-08-24T16:22:30Z</dcterms:modified>
  <cp:revision>8</cp:revision>
  <dc:subject/>
  <dc:title>PowerPoint Presentation</dc:title>
</cp:coreProperties>
</file>